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844-B500-4988-B109-B416E26F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D4D-D3A1-4705-B45A-6DA09667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C3D-32C3-4E5A-8D1D-0DF92649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9A6-3293-481C-8C2E-ED8B2BE4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9F0-B927-4ABF-BC2B-43055A9E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4FC-D50B-4D3C-B52E-1E0E471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C71-9EDD-4CE9-BB2F-FE5CA4A7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2B7-151C-4725-8E38-8D628B48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210-E0C4-4F28-AD5B-992252BB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A45-3D6A-4160-8F3B-3FA4799A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F06-26B4-4041-8548-299CBF1F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54F-7F96-4BC6-B35F-568238D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E2C9-A7E7-44C2-BC64-80625D95D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86600" y="525312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66680"/>
            <a:ext cx="7696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</a:t>
            </a:r>
            <a:endParaRPr b="0" lang="en-US" sz="1800" spc="1" strike="noStrike">
              <a:ln w="12600">
                <a:solidFill>
                  <a:srgbClr val="ff66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4800600"/>
            <a:ext cx="342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Robert 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playmus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434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2395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35812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what Robert Cade created Gato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orad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,9,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1357200" cy="18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15200" y="4419720"/>
            <a:ext cx="13572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born in 1927 in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rked as a medical researcher for the University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e called the drink Gatorade and the collages football team is now called the “The Gator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e bought Stokely van camp in 198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s working with medical things and has become a professor of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orade refueled the football players and gave them mor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helpful because then they could still play hard in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this was a major house hold name : Gatora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29000" y="4419720"/>
            <a:ext cx="2027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1:55Z</dcterms:created>
  <dc:creator>install</dc:creator>
  <dc:description/>
  <dc:language>en-US</dc:language>
  <cp:lastModifiedBy>install</cp:lastModifiedBy>
  <dcterms:modified xsi:type="dcterms:W3CDTF">2010-03-22T16:06:30Z</dcterms:modified>
  <cp:revision>9</cp:revision>
  <dc:subject/>
  <dc:title>Slide 1</dc:title>
</cp:coreProperties>
</file>